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6.jpeg" ContentType="image/jpeg"/>
  <Override PartName="/ppt/media/image20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5.png" ContentType="image/png"/>
  <Override PartName="/ppt/media/image27.wmf" ContentType="image/x-wmf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FA77-3645-4AD3-B307-FBF792EEC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A844-8181-486F-9204-306092CFC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DFCF-A850-4FFE-8B52-9039D2B51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4072-710B-47C8-94B6-C4A9BF99E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11219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90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91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94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587520" y="12272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of SIMLEZA-A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8320" y="103932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363320"/>
            <a:ext cx="7534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scussions with stakeholders in 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040" y="2087280"/>
            <a:ext cx="1159956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s aimed at addressing bottlenecks to technology adoption &amp;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s held: 20 November 2014 &amp; 7 Febr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109728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4T08:45:29Z</dcterms:modified>
  <cp:revision>111</cp:revision>
  <dc:subject/>
  <dc:title>PowerPoint Presentation</dc:title>
</cp:coreProperties>
</file>